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5D10-51B1-4AE5-A4E4-7FC54BE1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05E6-B6DA-44E7-8DE2-0374D22F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E129-2A31-4DC7-AD00-1C88B89B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641A-A69F-4937-886D-A1A6C958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ECF9-FFAF-48FE-9862-06D77A7A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D67-5C8F-4B52-8F32-DAFBB6A5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BB09-2305-40F3-80B9-4007FE3C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DD38-E444-4850-AE84-92F97373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0235-87B2-400C-B098-65CFD7B0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AB86-91D3-4A4F-9009-FEEA5775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9D67-4F13-4CF3-BDD0-26B607EC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C795-27A4-4361-A9E4-96A2D362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A4F004-F31D-4DCA-8C71-0F2F9891CF8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бщающее повторение частей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описание омофор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504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б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ж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 ж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ём, прито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чём, при то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та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описание предл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125360"/>
          <a:ext cx="8229600" cy="5684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188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. с предлого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. предлог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усл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од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долж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ссказ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долж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дел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ств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 дел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marL="6808680" indent="-6807240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808680"/>
                          <a:tab algn="l" pos="7723080"/>
                          <a:tab algn="l" pos="8637480"/>
                          <a:tab algn="l" pos="9551880"/>
                          <a:tab algn="l" pos="10466280"/>
                          <a:tab algn="l" pos="11380680"/>
                          <a:tab algn="l" pos="12295080"/>
                          <a:tab algn="l" pos="13209480"/>
                          <a:tab algn="l" pos="14123880"/>
                          <a:tab algn="l" pos="15038280"/>
                          <a:tab algn="l" pos="15952680"/>
                          <a:tab algn="l" pos="1686708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ств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сух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у коллектива класс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чу с подруго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чу ветр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ли в заклю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ключени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еч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вить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ё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говорили </a:t>
                      </a:r>
                      <a:r>
                        <a:rPr b="0" i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с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ё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работ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о группа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Выполнение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омпьютерное тес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какой части речи вызывает особое затрудн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авописание какой части речи вызывает особое затруднени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бщение и систематизация знаний, полученных в 5-9 классах по теме «Морфология», закрепление навыков правописания  разных частей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тестированию на компьютер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мментированное пись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гда увид..ла мать что уже и сыны её сели на к..ней она кинулась к меньш..му у которого в чертах лица выр..жалось более какой-то нежности она схватила его за стремя она прилипла к седлу его и с отчаянием в глазах (не)выпускала из рук сво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хема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огда =  - ), (что - =), [ - = ], (у которого =): [ - = ], [- = и = 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гда увидела мать, что уже и сыны её сели на коней, она кинулась к меньшому, у которого в чертах лица выражалось более какой-то нежности: она схватила его за стремя, она прилипла к седлу его и с отчаянием в глазах не выпускала из рук своих. (Н.Гого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35280" y="1052640"/>
            <a:ext cx="5761080" cy="129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сти реч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 rot="17580000">
            <a:off x="1833480" y="2492280"/>
            <a:ext cx="936720" cy="1368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3480000">
            <a:off x="5510520" y="2491560"/>
            <a:ext cx="976320" cy="1368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360" y="4076640"/>
            <a:ext cx="2950920" cy="7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ужеб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356000" y="4149720"/>
            <a:ext cx="439272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стоятель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естоим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ре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ою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аст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ед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84720" y="47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72200" y="49680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47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80360" y="47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1840" y="857160"/>
            <a:ext cx="10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83664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19480" y="8571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ж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03840" y="857160"/>
            <a:ext cx="109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м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00560" y="83664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дл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51480" y="83664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аяни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40720" y="8366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з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3120" y="114444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647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иде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16200" y="1647720"/>
            <a:ext cx="8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00720" y="1647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нула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16477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ало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92920" y="16477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ват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9120" y="20080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ип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76560" y="198900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74360" y="2800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ё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19480" y="278136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59280" y="28004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84720" y="278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-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6000" y="28004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80200" y="27813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2200" y="306864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87440" y="30891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33640" y="3089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09280" y="337644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33640" y="3952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1640" y="395280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393372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5480" y="3933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450864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73280" y="452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65640" y="5105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85640" y="510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89280" y="5105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5080" y="51055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508464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44920" y="510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8200" y="5084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5148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27080" y="51055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20000" y="508464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нег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Когда 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ю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(от гл.стаять в форме 1 лица, буд.време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танет речка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лубе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прил.голубой в форме сравн. степе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течёт, кача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ю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сущ. стая в форме Вин.па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ражённых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лубе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от сущ. голубь в форме Род. пад.мн.чис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58920" y="260280"/>
            <a:ext cx="691344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мофор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9:15:52Z</dcterms:created>
  <dc:creator>àð</dc:creator>
  <dc:description/>
  <dc:language>en-US</dc:language>
  <cp:lastModifiedBy>àð</cp:lastModifiedBy>
  <dcterms:modified xsi:type="dcterms:W3CDTF">2011-10-02T18:59:27Z</dcterms:modified>
  <cp:revision>8</cp:revision>
  <dc:subject/>
  <dc:title>Îáîáùàþùåå ïîâòîðåíèå ÷àñòåé ðå÷è</dc:title>
</cp:coreProperties>
</file>